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87C4-7623-40D1-BB71-13C2E2478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95EA-F40D-4425-A1EE-87FC73253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20A6-D2ED-449C-BFF7-B5CCFBC30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251E-51BC-49AF-987E-E2766DED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4F07-CDE7-4ADD-927D-552A585A1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60CF-7A40-41AD-962F-10B60AA28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A1EE-91D3-4B8D-A736-84876A63A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D14E-A4CB-460B-95AA-BD434086C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CC2-0F76-4342-ABEC-1E6379AB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D7D-48BD-4E17-ABDA-8672569C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294-D140-4B0E-9E3A-06143A5F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E50-E546-45A2-B14E-79B93AB1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9040-6CDC-4E34-8A3E-D345515C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7538-D210-4F3F-97C9-C91ADB45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BCC9-8EC1-4055-9CF7-77CF4E39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7B54-A997-4CD6-8913-C2384B46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87F0-EF51-4858-BD0D-4186C2DF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B370-78D9-4626-87BF-1DD9BCE0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BAAD-5ADA-42FC-A904-6B8A6A16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35A-B74D-446D-B223-83DB1069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318F-0DD3-4D4C-ADC3-734C2199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908E-DB91-4B1D-B8A8-C0FB940F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CE57-196C-48C3-8DF0-5FD973B2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556F-EE31-40DC-96C3-E967E914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C02A-D048-4194-A94F-951E2D7E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DAB9-CF93-4A4F-ACB0-3763C240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D7A5-BB3D-4EA9-94DE-56BEF274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860A4-C3EB-4EE3-9BBB-2E7F83F0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3C16-70EB-4AC6-9DD8-3B095F3A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34359-33B6-4BE5-BD25-4E8CF333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EC0-03E3-4442-9226-A89D4573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2C9B-1F49-4A55-8431-3A2BBB87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A475-E798-46CD-A3EF-6EAD4EE4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0544-089E-4C3C-B27C-1D3B547B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6AB1-C9DA-48BD-AF48-3EA65CDB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D3382-B886-444F-BC65-093C0DB1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2E35-D082-49FD-9E5E-6530D097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4E9B-E2DA-49D0-B0B0-B16BABAF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06C4B-96AD-4BB3-A1A5-C526F149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F21F-ADFE-486F-AB1A-9AC3FD0C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1631D-F428-46C3-8F33-DC018DF6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BC7-08D5-48C8-9605-EFFAF80C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B63FA-8A4D-4305-B461-EDB0F2C7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FBE2F-BB81-4543-98F4-EBBCC1C0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349B-D53D-468A-926C-B4F74E73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344E-0896-4F94-BFFB-2E3C4250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96EC4-58AC-4423-9987-61CD02EF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D6E37-194F-4014-8EAE-407B425A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B801A-041A-4F81-88D7-98BE7DD3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F602-3943-4E13-BE8B-6C3B6345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09F5-D4C3-4AA8-AFF1-906467AC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5E0F9-46E3-4D56-8DDB-18AC1A84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D46-C2EA-4F1E-A956-BA617248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7E314-5035-4367-AEED-E333D87C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BFA05-0C31-4B1E-94D5-226BB49F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E35AF-63B8-42C4-8660-193589C9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423F4-1917-4D9B-A389-C45CFC15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7EBBF-9666-4BB3-A156-9C7A99CF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9C4A9-436F-4A15-A9A5-28ACCAF4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5DA5B-4732-49AC-A286-7DA1F692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67326-3675-463F-A79D-610F8AE1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02593-12EC-4B75-BAB6-A3C751C9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5B87C-E413-446D-8C0B-8F17C89B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D68-490F-420C-9980-83988CB0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D1E3C-1E16-4019-8E51-BCE19478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53F05-4E7F-499B-B489-946F8EA7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A7CFD-1888-42CA-8D88-A340FB32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FABE7-B9E1-4D00-A551-290D5D0E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53163-6F0E-4DCA-9707-1715B0D6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6C009-FA4E-49A3-975F-4CB67FE6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75B65-D6EC-49A1-9E6C-17131592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92BB8-73A2-4421-AC98-EED8FB53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3520E-C124-4B66-B395-9E5F659A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BD9D1-C657-4731-AFE5-CAE92347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3355-00AD-446E-87F3-FEFA96C6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2800F-F162-4FCF-8BDC-DBAA7BDA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93DB0-41A9-4999-85ED-114955CF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9D404-2EA3-4576-A75E-AC2927C2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3D538-83F5-4F66-8164-6BC1494F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ECDCD-67E3-4D05-A20C-B52BBB82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0DB11-7F70-4E0B-8205-CE51F086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01B84-01CF-4B56-B9A2-9CF39E26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81B24-AB00-482D-8DAE-FE89459C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9980D-35A4-4757-B60B-D7305193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E4B97-D3B3-4191-9A15-349A31C7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E9B-4FC0-482D-BA27-F985CAF7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E91D9-1575-4227-B25E-D20EBC7C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BC95D-B593-4B64-A83A-A9B4610E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BB96C-CA14-452A-B65A-B7883EEB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E56DC-235F-4BA9-B8F0-1598A7BA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1D4D1-7BB6-4968-8C8E-04E69A40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104-D778-4E68-A853-6BA24346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F227-DB45-4A82-894A-4C08B91E7A6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3D29-2434-405A-B806-60F1F375C2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52CA-E749-4A09-8D6A-0D2D5A17F5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BD1D-22AA-43A0-8205-D15763E874B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757F-FB54-4140-A847-132513A65BF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527A-CA49-44B5-87F1-ADE439BE651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30FE-324D-4BF7-8D83-220165C3548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Rhetorical Précis Mod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485280" indent="-485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argument is a claim an author makes about how things are and/or ought to b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argument is supported by eviden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vidence comes in various forms such as: research, statistics, examples, personal experience, stories, quotes, etc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counts as evidence varies according to the context of the argume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a kind of summary of a writer’s or speaker’s argument and evidence…an abstract of someone else’s wor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your explanation of how you understand the argume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establishes the foundation for your response to the argume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usually a single paragraph that contains four sentences or poi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9144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ame of auth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ype and title of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hetorical verb (asserts, argues, claims, suggests, …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at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cription of author’s thesis/argu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536400" y="281160"/>
            <a:ext cx="8382240" cy="1169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91440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/They/The author(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pport this (noun version of rhetorical verb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lain, in order, the support (evidence, examples, proof, etc.) the authors us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536400" y="281160"/>
            <a:ext cx="8607600" cy="11397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914400" y="2590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thor’s last name(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urpose is t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lain your opinion of the author’s purpos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536400" y="281160"/>
            <a:ext cx="8607600" cy="11397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9144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cribe tone of wri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cribe target audie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mplate: (Author) writes in a (description) tone for (target audience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16:10:18Z</dcterms:created>
  <dc:creator>Staff</dc:creator>
  <dc:description/>
  <dc:language>en-US</dc:language>
  <cp:lastModifiedBy>michelle.clark-cadwe</cp:lastModifiedBy>
  <dcterms:modified xsi:type="dcterms:W3CDTF">2012-10-10T16:15:26Z</dcterms:modified>
  <cp:revision>296</cp:revision>
  <dc:subject/>
  <dc:title>Argument Analysis</dc:title>
</cp:coreProperties>
</file>